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92CA-7811-4EF5-8A08-7E9B1034B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906948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99200"/>
            <a:ext cx="906948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EE12-79F6-4B93-A71E-80452502E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21654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992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992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FB8A-9B0D-46DB-9E93-0403B4E7C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291996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2165400"/>
            <a:ext cx="291996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2165400"/>
            <a:ext cx="291996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99200"/>
            <a:ext cx="291996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99200"/>
            <a:ext cx="291996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99200"/>
            <a:ext cx="291996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60E3-920F-4815-9D90-7FB9D70F2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2165400"/>
            <a:ext cx="90694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E010-971E-4F07-BD20-D345C98C1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90694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0F73-6E27-47CD-947C-906A7A7C2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44258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2165400"/>
            <a:ext cx="44258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24D6-6392-40CB-A53D-95C30B41A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A663-88EB-4B26-93DF-96777EF75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574D-26C1-4F63-96F7-3AE7CDF46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2165400"/>
            <a:ext cx="44258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992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4FB9-0974-4D22-B7B8-A8A76021C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44258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21654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992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F4F3-3953-4C62-A199-2ECD9F3C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21654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99200"/>
            <a:ext cx="906948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246F-4CDC-43CA-81E1-1A734FA05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2165400"/>
            <a:ext cx="90694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994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994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994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ABC565-B5C9-4924-A416-671E4629BE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e Parso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29920" y="1754280"/>
            <a:ext cx="9070920" cy="48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didn't have much money, but he w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ch in holy thoughts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believed strongly in practicing what he preach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was moral and hum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arson Continued..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2165040"/>
            <a:ext cx="90709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diligently took care of his congregation and nothing could stop him from checking on his parishion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had a burden for converting peop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 Christian prie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turned down an opportunity to make lots of money, because he chose to stay home and care for his peop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7T14:28:01Z</dcterms:created>
  <dc:creator>PCSC</dc:creator>
  <dc:description/>
  <dc:language>en-US</dc:language>
  <cp:lastModifiedBy/>
  <cp:revision>1</cp:revision>
  <dc:subject/>
  <dc:title/>
</cp:coreProperties>
</file>